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CA97-AD15-40D8-9B0C-4C12CDC9B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ny programmers simply enjoy the challenge; gain kudos; some ask for do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an be a startup business ‘testing the water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g of restricted features – AVG; Synch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Goodwill – eg MS Image Composite Editor (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23D4-00E0-4D85-9170-7333E9556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 have bought some – eg TightProjector, MailWas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Often it’s the same program you download.  They simply email you a code to input after you’ve p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icrosoft Office Trial is really share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72CE-C272-48EB-B870-1656EFCDD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o your researc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Gizmos site is a great start for reviews, comments, comparisons and download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the BFS Google Group members.  You are bound to get opi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void unnecessary additions – eg the ASK toolbar and search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Only Portable Apps will install on the BFS PC’s and then only on the Data dr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liable sites are listed on the next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FC5F-A8A4-4C15-8DBE-0C90F354A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Gizmo’s site is my personal favou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ave a text file open to paste these to the chat wind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005D-1376-42F8-AA9A-7F9BCD4AA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3684-E6C4-41AB-8AFE-70E3A7A03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716-8A56-4145-89A8-B7EB7EB6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4D0-6186-46E1-98C3-ADEBCDBD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2DE-5450-4CD3-AA2C-349CAFCF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12B-04A8-4AD8-8A9C-66F240D7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4206-84B0-4543-A285-D6506804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CAD2-D671-4663-8286-88D3EB76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6297-592E-48D0-A0D4-339F4D14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F337-1A2A-4571-B27E-AA14085B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FAD5-7CEC-42E5-93D6-FBCDEE47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FF81-F9B2-4C3B-A557-3B923740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D7FC-594A-4A81-B568-0C17524F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ACE-BC99-4E44-87F2-1B6939FB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102A-99A3-469E-8F15-0A30C152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3AF1-886C-433D-91F9-7A719931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B395-D7EE-4AA7-BE6F-B9620D5F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672B-92C7-4A27-A3B6-F4314C38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D375-795E-40DC-83AA-4239B1D7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1C3B7-46E7-41DF-B031-5645442A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59EEB-5FE0-4887-B40E-2E9CB0DB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1DDEB-FB2B-42E7-AD66-E01E5C4F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8F92-0CAB-4BB7-9157-C0BC0786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F3FAB-6F4F-4AC0-8DD2-442C7F1D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9A5-CE4D-402C-940D-B0075E3B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99668-B816-4AAC-B313-C4E82CF4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AF566-FE7C-454E-AD92-BD84EE50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5A629-9433-4E7B-B692-4F1E55CE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A505B-B8E2-4A8B-8929-4E83C4EA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3292-AEC3-4297-89D0-7B818C36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6E8FA-7A78-406C-AFDC-0C441C4E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DCC5-45EF-4BAE-83BF-B5AA490E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2B593-6ACE-40C1-86BF-9642F033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6CF8B-F557-4EB8-ACB1-193228CA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D5E32-D4C8-46E0-8BD4-107FBA78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920-FEBF-4792-A83C-BA018479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AEC0F-F1E2-4AC8-A165-D9025D4F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D953A-3C42-440B-BCE1-6A924C94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B359F-1A0C-42A7-A05F-4A009F75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F4A24-7A10-4706-8171-50E13239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A35A1-0652-46E5-BC80-826AFF48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6BA60-D667-4517-8C51-072EA744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FAB93-98C7-4899-B7CF-9CF51869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35F88-9AE7-4CDC-BF94-B2EA35F5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AA099-0CED-45BB-B9A9-41151C75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39FF7-3F2D-4C77-88BF-47AA22A5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3A3-12AC-40E3-9F04-3F9495B6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6FD36-8B48-4997-8678-9FE2E34F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BFE01-2990-447D-BB07-C97C6C55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B1126-DD0E-40DD-9436-13E6A05F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E20B9-2AAC-4733-A8D3-4538500B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517F5-5A82-4640-96B8-3776910F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4BFA8-4E2A-4B42-AE26-AD2AF250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5FC8D-63A5-4A56-95E4-5802C2A7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FF651-8B35-47F3-BF6F-B9006A55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2BF8A-9182-479A-BBFA-B478AD2C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7BF49-713E-467D-9730-7DFAF34B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6A7-5BC7-4B78-92B4-AB41D475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E0845-B2AD-4C96-AFEA-7D64B25B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99828-EBED-4E50-9804-21BDF48B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662A3-F502-49D0-8547-0A6802C1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2CCDC-0D61-46F3-B3CF-CAB012AD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9F918-E6F3-46E8-8B73-CEF81685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0AA50-800A-45C5-A0B7-CAF6DB71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00AEB-A685-43B8-A28F-A341A6B2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96769-43CC-438E-AB53-D45CDD87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5F6D6-8EF0-4900-98BB-DA017CDE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A84F6-96F9-4937-B0CD-C4A905EB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42D-DFD5-45D4-A987-6E277916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CF3E1-D5A8-491A-AF62-E0BB5A83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9735D-8B1E-45FD-93C1-2E101F45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4F5EF-EC15-4501-9182-8018BEA9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9081D-76A6-4C9D-9F76-6824D295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E8734-DFAF-4556-B377-2079CB42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26E2B-DBA4-4D0C-8FEE-A39E7354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6F2A0-C04D-4218-B4B3-ADC7322A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54E04-BE9D-4635-8C27-B59B3AFB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03005-A4D9-4756-AE9F-CED8ECD6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61ABE-003D-48F6-ADD6-3A61EF38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EAD4-CA68-409B-A077-8B24BEA9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FE79A-F7DE-46DB-80F0-940925B9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A215B-FE25-4C93-89A2-3050A9E4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A029C-3291-4A46-8BA0-68F7ED65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E411D-9CC5-47DC-AB14-138D0EB0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ACCFF-9AF4-4608-B791-C12A48AE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519-B9DA-4657-BA0B-24023EB0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033E-A0E0-471F-87F4-C9C8266C557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0512-2FC2-4971-B4B5-8F4330FBDC5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0B3A-5983-4074-9CF6-157B43D98A3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8C14-B41D-47DF-8631-CA766FEC46E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85F0-8B47-4F48-B5B4-574F4C4579B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0BE2-DC7C-4097-A666-2F6F8B2B05F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1DBE-4DE6-4EA4-879D-8B564F7A3C4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03280" y="691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Tech Savvy Seniors</a:t>
            </a:r>
            <a:br>
              <a:rPr sz="3900"/>
            </a:b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Woodrising Neighbourhood Centr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Title 1"/>
          <p:cNvSpPr/>
          <p:nvPr/>
        </p:nvSpPr>
        <p:spPr>
          <a:xfrm>
            <a:off x="1258920" y="2637000"/>
            <a:ext cx="7499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572314"/>
                </a:solidFill>
                <a:latin typeface="Gill Sans MT"/>
              </a:rPr>
              <a:t>Free Softwa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572314"/>
                </a:solidFill>
                <a:latin typeface="Gill Sans MT"/>
              </a:rPr>
              <a:t>an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572314"/>
                </a:solidFill>
                <a:latin typeface="Gill Sans MT"/>
              </a:rPr>
              <a:t>Online Trai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Freewa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Often as good or better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than commercial softwa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hy is it Fre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Uni and College pro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People who love programm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Developing busin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Superseded softwa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Restricted features, hope you’ll bu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Community goodwi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4" descr="C:\Users\Keith\AppData\Local\Microsoft\Windows\Temporary Internet Files\Content.IE5\I0MJUD2F\MC900104752[1].wmf"/>
          <p:cNvPicPr/>
          <p:nvPr/>
        </p:nvPicPr>
        <p:blipFill>
          <a:blip r:embed="rId1"/>
          <a:stretch/>
        </p:blipFill>
        <p:spPr>
          <a:xfrm>
            <a:off x="5940360" y="0"/>
            <a:ext cx="3087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Sharewa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Try before you bu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Restrictions might be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Crippled featu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Time limi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Usage Limi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Usually lower cost than commerci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ompanies who can’t afford distribu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4" descr="C:\Users\Keith\AppData\Local\Microsoft\Windows\Temporary Internet Files\Content.IE5\YNQZBS96\MC900036639[1].wmf"/>
          <p:cNvPicPr/>
          <p:nvPr/>
        </p:nvPicPr>
        <p:blipFill>
          <a:blip r:embed="rId1"/>
          <a:stretch/>
        </p:blipFill>
        <p:spPr>
          <a:xfrm>
            <a:off x="7020000" y="549360"/>
            <a:ext cx="18730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Cavea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Google for reviews </a:t>
            </a:r>
            <a:r>
              <a:rPr b="1" lang="en-AU" sz="3200" spc="-1" strike="noStrike">
                <a:solidFill>
                  <a:srgbClr val="000000"/>
                </a:solidFill>
                <a:latin typeface="Gill Sans MT"/>
              </a:rPr>
              <a:t>&amp; iss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heck the alternativ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Only download from reliable si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atch the install options closel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Avoid extra toolbars or search si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Give it a fair test ru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Read the instructions!!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Picture 4" descr="C:\Users\Keith\AppData\Local\Microsoft\Windows\Temporary Internet Files\Content.IE5\I0MJUD2F\MC900104728[1].wmf"/>
          <p:cNvPicPr/>
          <p:nvPr/>
        </p:nvPicPr>
        <p:blipFill>
          <a:blip r:embed="rId1"/>
          <a:stretch/>
        </p:blipFill>
        <p:spPr>
          <a:xfrm>
            <a:off x="5724360" y="476280"/>
            <a:ext cx="3232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Reliable si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71280" y="1628280"/>
            <a:ext cx="796284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Gizmo’s site:</a:t>
            </a:r>
            <a:r>
              <a:rPr b="0" lang="en-AU" sz="3200" spc="-1" strike="noStrike">
                <a:solidFill>
                  <a:srgbClr val="0000ff"/>
                </a:solidFill>
                <a:latin typeface="Gill Sans MT"/>
              </a:rPr>
              <a:t> www.techsupportalert.c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Also check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ff"/>
                </a:solidFill>
                <a:latin typeface="Gill Sans MT"/>
              </a:rPr>
              <a:t>www.techsupportalert.com/best_shareware_sites.ht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ff"/>
                </a:solidFill>
                <a:latin typeface="Gill Sans MT"/>
              </a:rPr>
              <a:t>www.makeuseof.com/pages/the-best-of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ff"/>
                </a:solidFill>
                <a:latin typeface="Gill Sans MT"/>
              </a:rPr>
              <a:t>www.portableapps.c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6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Some Freeware I Use / Recommend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AVG, MSE, Avira, MalwareBy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Picasa, IrfanView, VLC Media Play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DBurnerXP, ccleaner, Notepad++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Everything,  Auslogics Defra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Keepass, Calibre, Q-Di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kype, Google Drive, Skydrive, Dropbox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yncback, Freemake Video Downloa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Legacy, MiniToo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705636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572314"/>
                </a:solidFill>
                <a:latin typeface="Gill Sans MT"/>
              </a:rPr>
              <a:t>Any Questions</a:t>
            </a:r>
            <a:br>
              <a:rPr sz="6000"/>
            </a:br>
            <a:r>
              <a:rPr b="0" lang="en-AU" sz="6000" spc="-1" strike="noStrike">
                <a:solidFill>
                  <a:srgbClr val="572314"/>
                </a:solidFill>
                <a:latin typeface="Gill Sans MT"/>
              </a:rPr>
              <a:t>about Freeware </a:t>
            </a:r>
            <a:br>
              <a:rPr sz="6000"/>
            </a:br>
            <a:r>
              <a:rPr b="0" lang="en-AU" sz="6000" spc="-1" strike="noStrike">
                <a:solidFill>
                  <a:srgbClr val="572314"/>
                </a:solidFill>
                <a:latin typeface="Gill Sans MT"/>
              </a:rPr>
              <a:t>and Shareware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Free Online Training Metho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773000"/>
            <a:ext cx="7499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elf Paced slides and/or video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eg BFS, GCFLearnFre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Downloadable book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How To’ websi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YouTube vide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Goog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Blackboard Collaborate webina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Open Universiti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4" descr="C:\Users\Keith\AppData\Local\Microsoft\Windows\Temporary Internet Files\Content.IE5\5HWT3ZDL\MC900360504[1].wmf"/>
          <p:cNvPicPr/>
          <p:nvPr/>
        </p:nvPicPr>
        <p:blipFill>
          <a:blip r:embed="rId1"/>
          <a:stretch/>
        </p:blipFill>
        <p:spPr>
          <a:xfrm>
            <a:off x="6134040" y="3068640"/>
            <a:ext cx="26938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Free Online Training - Cavea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Learning takes effort by YO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Lack of instant feedback *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Nobody to ask immediate questions of *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Internet usage (video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Need to be self motivat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* webinars usually allow ques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Picture 4" descr="C:\Users\Keith\AppData\Local\Microsoft\Windows\Temporary Internet Files\Content.IE5\I0MJUD2F\MC900104728[1].wmf"/>
          <p:cNvPicPr/>
          <p:nvPr/>
        </p:nvPicPr>
        <p:blipFill>
          <a:blip r:embed="rId1"/>
          <a:stretch/>
        </p:blipFill>
        <p:spPr>
          <a:xfrm>
            <a:off x="5707080" y="5877000"/>
            <a:ext cx="3233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05:59:11Z</dcterms:created>
  <dc:creator>Keith</dc:creator>
  <dc:description/>
  <dc:language>en-US</dc:language>
  <cp:lastModifiedBy>Keith</cp:lastModifiedBy>
  <dcterms:modified xsi:type="dcterms:W3CDTF">2014-01-30T08:37:44Z</dcterms:modified>
  <cp:revision>133</cp:revision>
  <dc:subject/>
  <dc:title>If I Had To Give  Ten Tips</dc:title>
</cp:coreProperties>
</file>